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4859EC-D69D-4346-962D-16CC619B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653FCE-E36D-44B1-B6DD-61D75585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B8D8DC-D2C9-46D0-8074-68A50FB6F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74B5F2-048B-46D8-AF7E-5AE470B68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C7B2C2-B323-4F6C-9A71-04142A81C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427DCF-AA43-4750-A098-E87C75712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35BA14-2997-4E76-9812-837AF43B6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2C17E2-E773-49B3-BECB-A63C6375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000CBF-F615-4A0A-BA15-B5DB1FBF2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A9E40C-D18A-40F4-BB77-208B9E22B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EE539E-7887-41E9-A84E-B612CD1CE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EBD344-D0C9-40C5-AE4B-66BE43050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7D0F-1873-4AC0-950F-A707AC1E8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E3C5-1233-4401-9A0F-63456731E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1628-1395-49D5-843C-B6ABA4B58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60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84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60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84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1D18-584E-4259-8D16-959DA663A2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2B49-A7E4-4F24-956B-313B7D8FD0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5370A-E6A3-4150-8737-7ACA1972B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1235-8FF6-46D0-B405-2EC8B457F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7465-E99F-4DFF-BDF8-3CB4BDF0B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474F-99FC-423D-B74C-2C54781DC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B089-BE08-4E6B-99CC-B7032E46D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7482-374A-4210-B2DB-7F84CC9A9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BCC73-CD2D-4082-8386-4F0D04FFB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160"/>
            <a:ext cx="684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730FEF1B-470D-4097-9B42-058F9E5842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B3117377-A7E0-4EB6-ACCE-ECFCE705D9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7010640" cy="39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B9B23351-613A-452A-B633-6BC6FC9BEA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1904760"/>
            <a:ext cx="82310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express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our c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’écrit en deux m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5181840" cy="8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62A5698B-BDF2-40E2-8908-32DF814D40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547560" y="1676520"/>
            <a:ext cx="804888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990720" y="1859040"/>
            <a:ext cx="735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657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nnez les équivalents en françai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00280" y="2743200"/>
          <a:ext cx="7812000" cy="3205080"/>
        </p:xfrm>
        <a:graphic>
          <a:graphicData uri="http://schemas.openxmlformats.org/drawingml/2006/table">
            <a:tbl>
              <a:tblPr/>
              <a:tblGrid>
                <a:gridCol w="3906720"/>
                <a:gridCol w="3905280"/>
              </a:tblGrid>
              <a:tr h="32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.000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20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65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2.000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.000.000 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80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.789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00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% _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749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1314360"/>
                          <a:tab algn="l" pos="2228760"/>
                          <a:tab algn="l" pos="3143160"/>
                          <a:tab algn="l" pos="4057560"/>
                          <a:tab algn="l" pos="4971960"/>
                          <a:tab algn="l" pos="5886360"/>
                          <a:tab algn="l" pos="6800760"/>
                          <a:tab algn="l" pos="7715160"/>
                          <a:tab algn="l" pos="8629560"/>
                          <a:tab algn="l" pos="9543960"/>
                          <a:tab algn="l" pos="1045836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.250,50 _____________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6"/>
          <p:cNvSpPr/>
          <p:nvPr/>
        </p:nvSpPr>
        <p:spPr>
          <a:xfrm>
            <a:off x="22860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Comic Sans MS"/>
              </a:rPr>
              <a:t>dix m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BEC06C47-EE88-4FB5-819D-128C03C5AB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174312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fr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nçais, on utilise un point à la place d’une virgule pour indiquer mille et mil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mo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prend pas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la fin lorsqu’il est suivi d’un nombre entr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600200" y="4105440"/>
            <a:ext cx="6019920" cy="107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32508C41-D794-4B45-9035-320E4E8CC0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4360" y="1612800"/>
            <a:ext cx="8076960" cy="34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nombr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’est pas utilisé avant le mo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d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/one thous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n revanche, il est utilisé devan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ur d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/one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irement à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invariable. Il ne prend jamais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à la f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600200" y="5041800"/>
            <a:ext cx="5729400" cy="13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1523880" y="2908440"/>
            <a:ext cx="6521400" cy="12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034D08DC-A472-4A0F-A786-2D8773B17F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1787400"/>
            <a:ext cx="8231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 un nom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suivis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e/d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641340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93D931CC-C049-4952-93E0-D9EC8F550F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4360" y="1903320"/>
            <a:ext cx="8231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s une année écrite en toutes lettres, le mo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raccourci 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971800" y="3198960"/>
            <a:ext cx="320040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9EAB1488-BF4B-4BB7-9C0B-27AC5E0B77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1814400"/>
            <a:ext cx="8231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français, les années avant l’an 2000 peuvent être écrites de deux façons. Observez qu’en anglais, le m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und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ut être omis, mais qu’en français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nécess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371600" y="3338640"/>
            <a:ext cx="6400800" cy="115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1671B295-7A22-497E-ADEA-0C6C40B3A1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360" y="1788840"/>
            <a:ext cx="82310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pouvez exprimer les opérations mathématiques de deux manières, familières et form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371600" y="27795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87F2143A-E0E7-49D5-8262-F0EEF2F817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1823760"/>
            <a:ext cx="82310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verb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éga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eq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st au singulier alors qu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fai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au pluri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800280" y="2890800"/>
            <a:ext cx="75438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B.1-</a:t>
            </a:r>
            <a:fld id="{C5CCA622-91D5-42ED-AFA8-D1A3AD5220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360" y="1904760"/>
            <a:ext cx="82310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français, la ponctuation décimale est inversée. Utilisez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une virgu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à la place d’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un p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1371600" y="3111480"/>
            <a:ext cx="6400800" cy="698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5:23:22Z</dcterms:created>
  <dc:creator>© 2011 Vista Higher Learning. All rights reserved.</dc:creator>
  <dc:description/>
  <cp:keywords/>
  <dc:language>en-US</dc:language>
  <cp:lastModifiedBy>Viviane Grebert</cp:lastModifiedBy>
  <dcterms:modified xsi:type="dcterms:W3CDTF">2011-09-13T21:32:30Z</dcterms:modified>
  <cp:revision>31</cp:revision>
  <dc:subject>Espaces: Rendez-vous avec le monde francophone, Second Edition</dc:subject>
  <dc:title>Unité 5: Les loisirs</dc:title>
</cp:coreProperties>
</file>